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9936-D564-4FC2-BA70-F6114480A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BBF6-D2BF-45AB-9705-2833BED41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B6B4-1A8B-4F24-85EA-5A19BF239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CE5D-E68C-4F9A-B4B2-7F8606FF4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63AD-007A-426E-885F-54854B10C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825-2815-45F5-A103-1CF6D3AA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F31-5624-4F46-BC35-F256A504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83A9-0DCC-4C1A-BEF9-7E9B0D37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840-451C-4A8C-8B54-620672A7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0B58-8F61-44DB-948B-7DB92186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8729-BD78-46A5-A97D-BD9E8506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00F8-2A47-4E83-B6F9-A96CD415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CC7A-5C4D-4E6D-AC8A-8C15DFB2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6296-5F9E-4A7C-A17D-27DE928F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13DD-BD1C-48CA-81E2-F073EE04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4B52-5214-41D3-9B51-515CBACB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88B-79A9-44EA-BA30-B5053985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2FAB-5ABC-4541-92A8-25C953F4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290D-9D1D-4B12-AABA-C64E7135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B944-4DF7-43BB-896C-24BED339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EA97-A33E-41EA-8821-22998A66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15D3-9C61-4116-B166-6A78898F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C2640-E4B5-4DAF-B458-71651A77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DEB69-508B-4C05-9ED9-F929E7A0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18C3B-BFA1-4B87-8270-F6D55E6A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C4F24-F5D8-40AC-856B-C1FE5275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6E11C-36DF-4D3C-87AB-027F94B2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B2A-58B3-4370-A7B6-9D642738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4B89E-A13D-4060-A55A-8F71AF14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715C3-1267-46E4-B0A5-C39F7E58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DA6BF-49CA-43FF-859E-A14B784B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80DF1-F80A-409A-9434-643C1AE6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5FA87-46EE-49DE-A0AC-D5670631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D469-C53B-440E-9AD9-449E8896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07C43-2188-4677-A68F-84226025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A0CF9-5E7D-4109-B786-6DA21169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361EE-FB59-466B-A0E7-B5467C5D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D8405-5665-4DF9-8DF2-CEBDBCCA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9BB-0B7D-44FE-9918-614A163A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A6A9E-EBDA-4034-A522-08D86146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F7441-75CF-4CF7-B1DE-8EB65A6B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4E070-3688-42B7-B671-60B321F9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38688-B8EE-45C4-9537-D7036423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581E1-F85C-40DA-9153-F929FA4A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C6B80-137A-4C0C-9398-FD3C505D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55A2B-F135-4B6B-B692-C21FA3AF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3B4A4-F3C4-4BC4-AA32-BE4186B7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E0C31-EFEB-4776-81A7-7D2A1312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1573B-61DE-4FB3-9782-1A899222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FAD-6334-4F73-A149-EAD6DA2B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3446C-BE7F-48C5-8E77-6F2F3AC3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D189E-E145-42D1-98ED-9CCBEDFE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935DF-86B0-4099-95E4-7C436F4F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58EFD-7426-49FA-AA00-94D8BFAA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D5389-2ED0-400B-A71B-353F12BD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A2736-AA8C-4802-80A6-30B5D558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AE652-73A3-4297-AB1C-1B79050E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F7DF1-0231-4ECD-841B-259CA435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327A0-6D2B-4D08-BF60-0ED79FB4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90DA8-8823-4B0F-AD86-1A1175A5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42B-5142-47E4-A1D2-28F557E0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70D72-DC0C-4DDA-BC87-98E2E452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EFB0-2A41-4FB3-9744-9907CA13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2A7-DDF1-440D-B640-B1FE54DD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9AE-B1CB-4286-8F97-D745DA1A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FFC0-004A-4C5B-B06F-37657BE642D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4431-E723-4EA9-82C7-40A311BFDF0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8FBC-086F-4BB9-8044-332B209DF0D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0853-FA13-4192-8FC2-89E3E0892EF7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7FCD-4309-40E2-BBB0-31D84BF1A24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How to Add Mixed Numbe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parate the whole number parts from the fraction par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common denominators for the fractions and then add the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dd the whole numbers togeth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mplif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1295280" y="228600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295280" y="332100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2057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20574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57200" y="34894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457200" y="46483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20574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20574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205740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205740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3"/>
          <p:cNvSpPr/>
          <p:nvPr/>
        </p:nvSpPr>
        <p:spPr>
          <a:xfrm>
            <a:off x="3352680" y="2819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4724280" y="225432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5"/>
          <p:cNvSpPr/>
          <p:nvPr/>
        </p:nvSpPr>
        <p:spPr>
          <a:xfrm>
            <a:off x="53341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6"/>
          <p:cNvSpPr/>
          <p:nvPr/>
        </p:nvSpPr>
        <p:spPr>
          <a:xfrm>
            <a:off x="335268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4724280" y="327672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8"/>
          <p:cNvSpPr/>
          <p:nvPr/>
        </p:nvSpPr>
        <p:spPr>
          <a:xfrm>
            <a:off x="53341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9"/>
          <p:cNvSpPr/>
          <p:nvPr/>
        </p:nvSpPr>
        <p:spPr>
          <a:xfrm>
            <a:off x="228600" y="5943600"/>
            <a:ext cx="3429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CM of 4 and 6 is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533412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1"/>
          <p:cNvSpPr/>
          <p:nvPr/>
        </p:nvSpPr>
        <p:spPr>
          <a:xfrm>
            <a:off x="52578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2"/>
          <p:cNvSpPr/>
          <p:nvPr/>
        </p:nvSpPr>
        <p:spPr>
          <a:xfrm>
            <a:off x="5410080" y="2438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3"/>
          <p:cNvSpPr/>
          <p:nvPr/>
        </p:nvSpPr>
        <p:spPr>
          <a:xfrm>
            <a:off x="5257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4"/>
          <p:cNvSpPr/>
          <p:nvPr/>
        </p:nvSpPr>
        <p:spPr>
          <a:xfrm>
            <a:off x="4800600" y="4572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5"/>
          <p:cNvSpPr/>
          <p:nvPr/>
        </p:nvSpPr>
        <p:spPr>
          <a:xfrm>
            <a:off x="57150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6"/>
          <p:cNvSpPr/>
          <p:nvPr/>
        </p:nvSpPr>
        <p:spPr>
          <a:xfrm>
            <a:off x="5791320" y="5105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7"/>
          <p:cNvSpPr/>
          <p:nvPr/>
        </p:nvSpPr>
        <p:spPr>
          <a:xfrm>
            <a:off x="579132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8"/>
          <p:cNvSpPr/>
          <p:nvPr/>
        </p:nvSpPr>
        <p:spPr>
          <a:xfrm>
            <a:off x="4419720" y="457200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9" name="Line 4"/>
          <p:cNvSpPr/>
          <p:nvPr/>
        </p:nvSpPr>
        <p:spPr>
          <a:xfrm>
            <a:off x="220968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286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228600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914400" y="198108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487692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487692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4114800" y="237636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4876920" y="23623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5181480" y="176688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4876920" y="283356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480060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4648320" y="35812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5181480" y="342900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1143000" y="484488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209680" y="484488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2895480" y="487692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2"/>
          <p:cNvSpPr/>
          <p:nvPr/>
        </p:nvSpPr>
        <p:spPr>
          <a:xfrm>
            <a:off x="34290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3581280" y="4876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3505320" y="5410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4267080" y="487692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4952880" y="4876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7"/>
          <p:cNvSpPr/>
          <p:nvPr/>
        </p:nvSpPr>
        <p:spPr>
          <a:xfrm>
            <a:off x="5867280" y="548640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28"/>
          <p:cNvSpPr/>
          <p:nvPr/>
        </p:nvSpPr>
        <p:spPr>
          <a:xfrm>
            <a:off x="6019920" y="49528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5943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2T13:44:53Z</dcterms:created>
  <dc:creator>Josh Hammond</dc:creator>
  <dc:description/>
  <dc:language>en-US</dc:language>
  <cp:lastModifiedBy>Home</cp:lastModifiedBy>
  <dcterms:modified xsi:type="dcterms:W3CDTF">2010-11-14T15:55:10Z</dcterms:modified>
  <cp:revision>12</cp:revision>
  <dc:subject/>
  <dc:title>Adding Mixed Numbers</dc:title>
</cp:coreProperties>
</file>